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0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DAA-770E-4723-B0C7-2B12F75E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AAA-F7BE-4FB4-ACF9-3615247E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A77-6943-4ED9-ACC9-CC9C26AC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94A-0B70-43F5-A25A-EAAE30094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2AD6-DFFD-4FBE-ABAB-BB17FD7D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044-58A3-497D-96FE-D1E2DBED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A43-EE77-4E81-9D4A-2E83985E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5C2-EA69-4EEA-A170-6D7A485D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52E-FD32-43F5-9DA0-7E7C1701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C4D-9B72-4BFE-9F54-D2E7927A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257-B768-4AE4-8D16-D980268C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11F-D506-4587-83AE-084B50E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C167-5E62-4FD6-A9CA-6679C0155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file:///tmp/home/.config/libreoffice/4/user/gallery/~PP2578.WAV" TargetMode="External"/><Relationship Id="rId5" Type="http://schemas.microsoft.com/office/2007/relationships/media" Target="file:///tmp/home/.config/libreoffice/4/user/gallery/~PP2578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file:///tmp/home/.config/libreoffice/4/user/gallery/~PP1371.WAV" TargetMode="External"/><Relationship Id="rId3" Type="http://schemas.microsoft.com/office/2007/relationships/media" Target="file:///tmp/home/.config/libreoffice/4/user/gallery/~PP137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~PP1243.WAV" TargetMode="External"/><Relationship Id="rId3" Type="http://schemas.microsoft.com/office/2007/relationships/media" Target="file:///tmp/home/.config/libreoffice/4/user/gallery/~PP1243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~PP1116.WAV" TargetMode="External"/><Relationship Id="rId3" Type="http://schemas.microsoft.com/office/2007/relationships/media" Target="file:///tmp/home/.config/libreoffice/4/user/gallery/~PP1116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~PP161.WAV" TargetMode="External"/><Relationship Id="rId3" Type="http://schemas.microsoft.com/office/2007/relationships/media" Target="file:///tmp/home/.config/libreoffice/4/user/gallery/~PP16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audio" Target="file:///tmp/home/.config/libreoffice/4/user/gallery/~PP1174.WAV" TargetMode="External"/><Relationship Id="rId4" Type="http://schemas.microsoft.com/office/2007/relationships/media" Target="file:///tmp/home/.config/libreoffice/4/user/gallery/~PP1174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audio" Target="file:///tmp/home/.config/libreoffice/4/user/gallery/~PP578.WAV" TargetMode="External"/><Relationship Id="rId4" Type="http://schemas.microsoft.com/office/2007/relationships/media" Target="file:///tmp/home/.config/libreoffice/4/user/gallery/~PP578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file:///tmp/home/.config/libreoffice/4/user/gallery/~PP2310.WAV" TargetMode="External"/><Relationship Id="rId3" Type="http://schemas.microsoft.com/office/2007/relationships/media" Target="file:///tmp/home/.config/libreoffice/4/user/gallery/~PP2310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1746.WAV" TargetMode="External"/><Relationship Id="rId3" Type="http://schemas.microsoft.com/office/2007/relationships/media" Target="file:///tmp/home/.config/libreoffice/4/user/gallery/~PP1746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file:///tmp/home/.config/libreoffice/4/user/gallery/~PP1462.WAV" TargetMode="External"/><Relationship Id="rId3" Type="http://schemas.microsoft.com/office/2007/relationships/media" Target="file:///tmp/home/.config/libreoffice/4/user/gallery/~PP1462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audio" Target="file:///tmp/home/.config/libreoffice/4/user/gallery/~PP1257.WAV" TargetMode="External"/><Relationship Id="rId4" Type="http://schemas.microsoft.com/office/2007/relationships/media" Target="file:///tmp/home/.config/libreoffice/4/user/gallery/~PP1257.WAV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file:///tmp/home/.config/libreoffice/4/user/gallery/~PP1911.WAV" TargetMode="External"/><Relationship Id="rId3" Type="http://schemas.microsoft.com/office/2007/relationships/media" Target="file:///tmp/home/.config/libreoffice/4/user/gallery/~PP1911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file:///tmp/home/.config/libreoffice/4/user/gallery/~PP1815.WAV" TargetMode="External"/><Relationship Id="rId3" Type="http://schemas.microsoft.com/office/2007/relationships/media" Target="file:///tmp/home/.config/libreoffice/4/user/gallery/~PP1815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2594.WAV" TargetMode="External"/><Relationship Id="rId3" Type="http://schemas.microsoft.com/office/2007/relationships/media" Target="file:///tmp/home/.config/libreoffice/4/user/gallery/~PP2594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file:///tmp/home/.config/libreoffice/4/user/gallery/~PP2154.WAV" TargetMode="External"/><Relationship Id="rId3" Type="http://schemas.microsoft.com/office/2007/relationships/media" Target="file:///tmp/home/.config/libreoffice/4/user/gallery/~PP2154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Idah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laudia Eil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875200">
            <a:off x="5638680" y="45684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4724280"/>
            <a:ext cx="3279600" cy="178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7920" y="533520"/>
            <a:ext cx="1154160" cy="1904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fotografi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0" y="2819520"/>
            <a:ext cx="37846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ern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09680" y="2676600"/>
            <a:ext cx="4610160" cy="2886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7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m Barber Park geblieb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38280" y="272412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1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ko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259380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mir gef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ho war sehr g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2744640" cy="3200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71600" y="2895480"/>
            <a:ext cx="1917720" cy="3403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0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aho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hat gut Kartoffel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143000" y="35812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Boise,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95480" y="2438280"/>
            <a:ext cx="2530440" cy="3959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m Kartoffeln F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4672080" cy="2967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g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255760" cy="3062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kau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257800" y="3200400"/>
            <a:ext cx="1898640" cy="2128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914400" y="3200400"/>
            <a:ext cx="2801880" cy="1897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3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 Kartoffeln gele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2931840" cy="2423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n einen Pool geschwom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809880" cy="2481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Bear Lake Hot Springs gese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809880" cy="2581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freunde besu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733920" cy="2770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57:07Z</dcterms:created>
  <dc:creator>CUSD220</dc:creator>
  <dc:description/>
  <dc:language>en-US</dc:language>
  <cp:lastModifiedBy>CUSD220</cp:lastModifiedBy>
  <dcterms:modified xsi:type="dcterms:W3CDTF">2011-11-15T18:30:02Z</dcterms:modified>
  <cp:revision>3</cp:revision>
  <dc:subject/>
  <dc:title>Ich war in Idaho!</dc:title>
</cp:coreProperties>
</file>